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1FF-176C-4210-86BB-66CE8804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ACE-4C17-43AC-A549-F0CBA8D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1F0-10ED-4610-AD4F-D3DF087D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3EB-3DC6-4054-AE47-B6F9E6CB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525-3211-4095-9EF1-7172D7B4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FDB-FB96-43FC-A9EB-8A3FA66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F1A-F93E-46B6-B552-682A580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89C-B229-49BA-AEDB-782D32D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93E-70F3-46F3-A573-FEBDF8C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1ED-F4A7-4132-A141-0122847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791-406E-47AC-9EA9-6D03317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003-A2BF-4046-8B74-BEDAFBCE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C6AC-98F1-4D22-AA6A-5A6AD382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 viaje de Ul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9636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595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Las Si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39360" cy="526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365720"/>
            <a:ext cx="266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Pies de ave y cuerpo de muj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us cantos atraen a los naveg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Escila i Carib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5373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ligros del est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b155"/>
                </a:solidFill>
                <a:latin typeface="Comic Sans MS"/>
              </a:rPr>
              <a:t>Vacas sagradas de Hel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616572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65920" cy="52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47640" y="4005360"/>
            <a:ext cx="2160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acrifican vacas para c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Helios les impone un cast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Calip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499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1413000"/>
            <a:ext cx="2160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Ninfa enamora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Lo retiene con ella 7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Comic Sans MS"/>
              </a:rPr>
              <a:t>Isla del los fea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559640" cy="3749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43640" y="530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-Encuentra a Nausi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1b155"/>
                </a:solidFill>
                <a:latin typeface="Comic Sans MS"/>
              </a:rPr>
              <a:t>Ít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12160" cy="472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148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d1b155"/>
                </a:solidFill>
                <a:latin typeface="Comic Sans MS"/>
              </a:rPr>
              <a:t>Llegada a Ítaca y reencuentro con Penélope</a:t>
            </a:r>
            <a:r>
              <a:rPr b="0" lang="es-ES" sz="2000" spc="-1" strike="noStrike">
                <a:solidFill>
                  <a:srgbClr val="d1b155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ro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88360" cy="503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916280"/>
            <a:ext cx="5003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b"/>
                </a:solidFill>
                <a:latin typeface="Comic Sans MS"/>
              </a:rPr>
              <a:t>-</a:t>
            </a:r>
            <a:r>
              <a:rPr b="0" lang="es-ES" sz="2400" spc="-1" strike="noStrike">
                <a:solidFill>
                  <a:srgbClr val="ffffcb"/>
                </a:solidFill>
                <a:latin typeface="Comic Sans MS"/>
              </a:rPr>
              <a:t>Partida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atalla contra los ci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877000" cy="50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92360" y="580536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-El viento desvia a Ulises hasta el país de los ci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635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Lotófa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416720" cy="556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98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Flor del l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Les hace olvidar el vi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íc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03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7280" y="1916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igantes de un solo o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997360"/>
            <a:ext cx="20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Encierra a Ulises i a los suyos en una cu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4724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Le clavan una esta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4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E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519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407664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Comic Sans MS"/>
              </a:rPr>
              <a:t>-Indica la ruta a Ulises i los g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01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-Les da un saco de v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Lestrig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08920" cy="536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1341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-Atacan las naves de Ul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Maga Ci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70840" cy="506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32000" y="472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onversión en ce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73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-Ulises los res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6a47"/>
                </a:solidFill>
                <a:latin typeface="Comic Sans MS"/>
              </a:rPr>
              <a:t>El 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0560" y="56610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550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11640" y="5516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Ulises va a consultar a Tirés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5:43:23Z</dcterms:created>
  <dc:creator>ANDREA</dc:creator>
  <dc:description/>
  <dc:language>en-US</dc:language>
  <cp:lastModifiedBy>ANDREA</cp:lastModifiedBy>
  <dcterms:modified xsi:type="dcterms:W3CDTF">2010-11-07T09:26:45Z</dcterms:modified>
  <cp:revision>57</cp:revision>
  <dc:subject/>
  <dc:title>Las hazañas de Ulises</dc:title>
</cp:coreProperties>
</file>